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102E2-C637-4D9B-8946-841406237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title of the talk.  I will get to this topic, but first I’m going to take a couple of diversions – first through the perspective of the MODS – what they want from anatomy ontologies.  And then through part relationships in adul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can do this entirely with integral part, and reason part_of through is_a.  e.g.- All organisms have a head as a part.  Male organism is an an organism, so it must have a head as a part. i.e.- we don’t need to recapitulate the entire DAG for each sex, just the relavant sexually dimorphic b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te – this list is incomplete</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LK THROUGH PART RELATIONSHIPS BETWEEN THESE – WHILE FLICKING BETWEEN SLID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 has gone into detail about how stage ranges can be specified for specific structures and correct me if I’m misrepresenting the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 Onard’s point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ing the boundaries, either on a structural or even on a functional basis, between a developing heart, a developing heart and a fully developed heart is a requirement. If we define heart on the basis of function then the boundary is simply that- the structure is actively participating in pumping or distributing blood, then a structure performing such a defined task regardless of stage of its development falls in that category. If based on the purported  or verified presence of all the cells necessary to complete the development of the heart, then a developing heart is a heart. If not, it is some kind of an anatomical cluster of cells grouped together on the basis of some developing function or structure. We can give it any name, a developing tissue, a primordium, an anlage,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836640" y="46432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 I guess we’re stuck with extrinsic factors determining at least some transitions – ultimately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 ARE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ris and Fabian suggested some possible way round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_of when both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 part_of does not </a:t>
            </a:r>
            <a:r>
              <a:rPr b="1" lang="en-GB" sz="1200" spc="-1" strike="noStrike">
                <a:solidFill>
                  <a:srgbClr val="000000"/>
                </a:solidFill>
                <a:latin typeface="Arial"/>
              </a:rPr>
              <a:t>need</a:t>
            </a:r>
            <a:r>
              <a:rPr b="0" lang="en-GB" sz="1200" spc="-1" strike="noStrike">
                <a:solidFill>
                  <a:srgbClr val="000000"/>
                </a:solidFill>
                <a:latin typeface="Arial"/>
              </a:rPr>
              <a:t> to be altered to take stage into accou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t maybe it cou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 going to start this talk from an application perspective to give some sense of the needs of the Model Organism DataBases re – anatomy ontolo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is provides some benchmarks for design of our anatomy ontologies – and also as a general way in to dicussing some basic problems of anatomy ontology desig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Note – May not be Kosher – up to philosphers to tell m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re could still be some ambiguity though.  It is helpful to curators and for grouping terms to be able to ask unambiguously what structure is present a specific  stag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Fabian D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develops_from C' if and only ei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or any c and any t, if c instantiates C at time t, then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t', c instantiates C' at t' and t' earlier t, and there is no t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uch that c instantiates C at t2 and c instantiates C' at t2</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20640" y="45720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think tying transitions to stage boundaries is a useful simplification (makes definitive parts lists for stages easier), where there is enough wiggle room in the definition of Y that it can be justifie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ing curations when we only know Y 'part_of' X is actually only an issue when there are subtypes of X and where there is only one of each partner per organism and the stages during which instances of each term are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eveloping CNS' has a cardinality of 1 and has a part_of child 'central brain anlage', and we know the stages during which this part_of child exists (see below), then we can happily conclude that if we were to dissect an instance of developing head at those stages, then we would find a central brain anl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tomy ontology terms are used by Model Organism Databases to curate </a:t>
            </a:r>
            <a:r>
              <a:rPr b="1" lang="en-GB" sz="1400" spc="-1" strike="noStrike">
                <a:solidFill>
                  <a:srgbClr val="000000"/>
                </a:solidFill>
                <a:latin typeface="Arial"/>
              </a:rPr>
              <a:t>expression and phenotypic data</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st such data comes </a:t>
            </a:r>
            <a:r>
              <a:rPr b="1" lang="en-GB" sz="1400" spc="-1" strike="noStrike">
                <a:solidFill>
                  <a:srgbClr val="000000"/>
                </a:solidFill>
                <a:latin typeface="Arial"/>
              </a:rPr>
              <a:t>from literature</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oice of terminology often varies with the background of the authors – perhaps they are interested in the developmental logic of the system they describe – or perhaps they want to emphasize a particular functional or organ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inology can often be confusing - Perhaps they use a terminology that is confusingly similar to one used for another part of the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ata comes in </a:t>
            </a:r>
            <a:r>
              <a:rPr b="1" lang="en-GB" sz="1400" spc="-1" strike="noStrike">
                <a:solidFill>
                  <a:srgbClr val="000000"/>
                </a:solidFill>
                <a:latin typeface="Arial"/>
              </a:rPr>
              <a:t>varying degrees of vagueness/specificity</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ink FlyBase already does a reasonable job of structuring adult development so that we can query the ontology to provide answers to the first set of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I want to focus on for now is this second point.  It’s not a straightforward as you might think.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ge sufficiently set to dicuss part relationships in the adul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plenty of cases where we can confidently declare that C=1.  New research is not about to discover another adult head or thorax in Drosophila. There are also cases where cardinality=1 by definition.  This is the case for most, perhaps all functional system terms (e.g. we can define the general term nervous system as the entire nervous system over all stages), and also for individual germ layer terms.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ese deductions are important for grouping.</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F0DC5-FDD3-49CF-BFA8-CB50CB9513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979B0-96D5-48A5-B921-B7970D3CB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AE581-15A3-42DA-9457-6724D3552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A320FE-A4CF-4BF9-966A-FE4E5ACB8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487D00-F8CF-4585-91DD-9DE5A4264B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295BF9-109F-45F6-8C01-5F8B80B39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0DB6F-42FC-4B0A-AF38-1E2DF45863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41A68-CE67-4AC9-B5BE-A44033D90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1ABE24-0341-45FF-922E-36F9989B5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B0EB4-88B0-40EE-95AB-75D6300DF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494CF-CE0A-4EA0-9561-B0E58651E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590F0-02AF-4EF6-86E0-20A1A928A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61B1A-3D3F-4002-84D6-1CF858222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8B357-5106-4EC0-AF6B-2926A554B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1CB568-7196-4805-9581-913662E1D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05CDED-34C5-4448-B072-F9CD67E1E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A83D8B-9C1B-4850-944E-126CC0020D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32771-BE5B-47C5-AEAC-507D654A2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8DAF7-2B0F-479E-9DD5-A628B3BDE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6167A-6E14-44E7-9BB3-99FB6973D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D6752-9B01-4147-9121-1424BFD20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14247-AC4A-4420-ABB8-639B8E1AB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EA0CB-B1C4-449C-8200-0B94542221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D551B-6AD5-41B0-B6ED-53904202E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2805-3999-4417-8FEF-FA4BB0D7C6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26353-B685-4D29-8E61-8270A038A0E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00000" y="270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0033"/>
                </a:solidFill>
                <a:latin typeface="Times New Roman"/>
              </a:rPr>
              <a:t>Representing Part Relationships Between Developing Structures</a:t>
            </a:r>
            <a:endParaRPr b="0" lang="en-US" sz="4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Grouping – the need for has_part </a:t>
            </a:r>
            <a:endParaRPr b="0" lang="en-US" sz="4200" spc="-1" strike="noStrike">
              <a:solidFill>
                <a:srgbClr val="330033"/>
              </a:solidFill>
              <a:latin typeface="Times New Roman"/>
            </a:endParaRPr>
          </a:p>
        </p:txBody>
      </p:sp>
      <p:sp>
        <p:nvSpPr>
          <p:cNvPr id="119" name="PlaceHolder 2"/>
          <p:cNvSpPr>
            <a:spLocks noGrp="1"/>
          </p:cNvSpPr>
          <p:nvPr>
            <p:ph/>
          </p:nvPr>
        </p:nvSpPr>
        <p:spPr>
          <a:xfrm>
            <a:off x="914400" y="1599840"/>
            <a:ext cx="7772400" cy="49244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R</a:t>
            </a:r>
            <a:r>
              <a:rPr b="0" lang="en-GB"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1 - expressed in X (subset)</a:t>
            </a:r>
            <a:endParaRPr b="0" lang="en-US" sz="20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 2 - expressed in Y</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only known part relationship between X and Y i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 part_of X</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not safe to group these two curations - we don't know whether the curation to X was made because of expression in a type of X that has a Y as a par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 has_part Y</a:t>
            </a:r>
            <a:endParaRPr b="0" lang="en-US" sz="2000" spc="-1" strike="noStrike">
              <a:solidFill>
                <a:srgbClr val="000000"/>
              </a:solidFill>
              <a:latin typeface="Arial"/>
            </a:endParaRPr>
          </a:p>
          <a:p>
            <a:pPr lvl="2" marL="1143000" indent="-228600">
              <a:lnSpc>
                <a:spcPct val="80000"/>
              </a:lnSpc>
              <a:spcBef>
                <a:spcPts val="451"/>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se two curations can be safely grouped - all types of X have a Y as a part.</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Representing sexual dimorphism</a:t>
            </a:r>
            <a:endParaRPr b="0" lang="en-US" sz="3800" spc="-1" strike="noStrike">
              <a:solidFill>
                <a:srgbClr val="330033"/>
              </a:solidFill>
              <a:latin typeface="Times New Roman"/>
            </a:endParaRPr>
          </a:p>
        </p:txBody>
      </p:sp>
      <p:sp>
        <p:nvSpPr>
          <p:cNvPr id="121" name="PlaceHolder 2"/>
          <p:cNvSpPr>
            <a:spLocks noGrp="1"/>
          </p:cNvSpPr>
          <p:nvPr>
            <p:ph/>
          </p:nvPr>
        </p:nvSpPr>
        <p:spPr>
          <a:xfrm>
            <a:off x="1476000" y="1557360"/>
            <a:ext cx="5761080" cy="452592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gt; gona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esti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ova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male organis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testi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female organism</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ova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gt; head</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brai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2707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art relationships during development</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Types of Developing Structure</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lage</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iguous tissue defined by lineage labelling as contributing all or the majority of its cells to some specified mature structure but not (yet) having distinct morphological boundaries.</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ordium</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ontiguous tissue defined by lineage labelling as contributing all of its cells to one or a few specified mature structures and having morphologically distinct boundaries</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rm layer</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imary division of embryo established just prior to &amp;/or during gastrulation.  Initially constituting a contiguous tissue contributing all of its cells a large but limited set of mature structures.</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tment</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Contiguous tissue defined by lineage labelling as consisting of cells unable to cross a *compartment boundary* to mix with cells in a neighbouring tissue with which it is contiguous during development.</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Types of Developing Structure</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terms group multiple primordia and anlage over the complete development of the system, part or organ.</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system (e.g.- developing nervous syste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cardinal) body part – e.g.- developing hea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veloping organ (e.g.- developing brai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0033"/>
                </a:solidFill>
                <a:latin typeface="Times New Roman"/>
              </a:rPr>
              <a:t>Relationships linking stage to anatomy</a:t>
            </a:r>
            <a:endParaRPr b="0" lang="en-US" sz="4400" spc="-1" strike="noStrike">
              <a:solidFill>
                <a:srgbClr val="330033"/>
              </a:solidFill>
              <a:latin typeface="Times New Roman"/>
            </a:endParaRPr>
          </a:p>
        </p:txBody>
      </p:sp>
      <p:sp>
        <p:nvSpPr>
          <p:cNvPr id="128" name="PlaceHolder 2"/>
          <p:cNvSpPr>
            <a:spLocks noGrp="1"/>
          </p:cNvSpPr>
          <p:nvPr>
            <p:ph/>
          </p:nvPr>
        </p:nvSpPr>
        <p:spPr>
          <a:xfrm>
            <a:off x="684000" y="1557000"/>
            <a:ext cx="82436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s= stage n:  starts during or after stage n</a:t>
            </a:r>
            <a:endParaRPr b="0" lang="en-US" sz="3000" spc="-1" strike="noStrike">
              <a:solidFill>
                <a:srgbClr val="000000"/>
              </a:solidFill>
              <a:latin typeface="Arial"/>
            </a:endParaRPr>
          </a:p>
          <a:p>
            <a:pPr marL="343080" indent="-343080">
              <a:spcBef>
                <a:spcPts val="7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Te= stage n: ends during or before stage n</a:t>
            </a:r>
            <a:endParaRPr b="0"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g.</a:t>
            </a:r>
            <a:r>
              <a:rPr b="0" lang="en-GB" sz="3200" spc="-1" strike="noStrike">
                <a:solidFill>
                  <a:srgbClr val="000000"/>
                </a:solidFill>
                <a:latin typeface="Arial"/>
              </a:rPr>
              <a:t> </a:t>
            </a:r>
            <a:r>
              <a:rPr b="0" lang="en-US" sz="2400" spc="-1" strike="noStrike">
                <a:solidFill>
                  <a:srgbClr val="000000"/>
                </a:solidFill>
                <a:latin typeface="Arial"/>
              </a:rPr>
              <a:t>central brain primordium; ts=6 te=8</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te: These definitions allow for cases where the transition between sub-types of a term occur spread out over multiple sta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Identity and development</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577800" indent="-577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 need some concept of identity for continuants (biological structures existing over time) that can account for changes composition over time (X can have diff parts at diff stages).</a:t>
            </a:r>
            <a:endParaRPr b="0" lang="en-US" sz="2400" spc="-1" strike="noStrike">
              <a:solidFill>
                <a:srgbClr val="000000"/>
              </a:solidFill>
              <a:latin typeface="Arial"/>
            </a:endParaRPr>
          </a:p>
          <a:p>
            <a:pPr marL="577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7800" indent="-57780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shifts in identity during development, e.g.- neuroblast -&gt; neuron, will be based on intrinsic criteria.  This could be morphological (e.g.- having an axon), or perhaps (?) functional (heart starts pump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Intrinsic identity and part_of</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600200"/>
            <a:ext cx="7772400" cy="3124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veloping nervous system ; ts=4 te=16</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t; neuron X ; ts=13 te=16</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 neuron X’ ts=16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t; neuron Y ts=14 te=16</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larval nervous system ts=16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600" spc="-1" strike="noStrike">
                <a:solidFill>
                  <a:srgbClr val="000000"/>
                </a:solidFill>
                <a:latin typeface="Arial"/>
              </a:rPr>
              <a:t>&lt; neuron X’ ts=16 …</a:t>
            </a:r>
            <a:endParaRPr b="0" lang="en-US" sz="2600" spc="-1" strike="noStrike">
              <a:solidFill>
                <a:srgbClr val="000000"/>
              </a:solidFill>
              <a:latin typeface="Arial"/>
            </a:endParaRPr>
          </a:p>
        </p:txBody>
      </p:sp>
      <p:sp>
        <p:nvSpPr>
          <p:cNvPr id="133" name=""/>
          <p:cNvSpPr/>
          <p:nvPr/>
        </p:nvSpPr>
        <p:spPr>
          <a:xfrm>
            <a:off x="971640" y="4797360"/>
            <a:ext cx="792000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ason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art_of : all neuron X are part_of (some) developing nervous system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Symbol"/>
                <a:ea typeface="Symbol"/>
              </a:rPr>
              <a:t></a:t>
            </a:r>
            <a:r>
              <a:rPr b="1" lang="en-GB" sz="1800" spc="-1" strike="noStrike">
                <a:solidFill>
                  <a:srgbClr val="000000"/>
                </a:solidFill>
                <a:latin typeface="Arial"/>
                <a:ea typeface="Arial"/>
              </a:rPr>
              <a:t> </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all neuron X after the stage that developing nervous system is considered mature have to get a new name </a:t>
            </a:r>
            <a:br>
              <a:rPr sz="1800"/>
            </a:br>
            <a:r>
              <a:rPr b="0" lang="en-GB" sz="1800" spc="-1" strike="noStrike">
                <a:solidFill>
                  <a:srgbClr val="000000"/>
                </a:solidFill>
                <a:latin typeface="Arial"/>
                <a:ea typeface="Arial"/>
              </a:rPr>
              <a:t> </a:t>
            </a:r>
            <a:r>
              <a:rPr b="1" lang="en-GB" sz="1800" spc="-1" strike="noStrike">
                <a:solidFill>
                  <a:srgbClr val="000000"/>
                </a:solidFill>
                <a:latin typeface="Arial"/>
                <a:ea typeface="Arial"/>
              </a:rPr>
              <a:t>-</a:t>
            </a:r>
            <a:r>
              <a:rPr b="0" lang="en-GB" sz="1800" spc="-1" strike="noStrike">
                <a:solidFill>
                  <a:srgbClr val="000000"/>
                </a:solidFill>
                <a:latin typeface="Arial"/>
                <a:ea typeface="Arial"/>
              </a:rPr>
              <a:t> identity is being ascribed extrinsical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Defining has_part for developing structures</a:t>
            </a:r>
            <a:endParaRPr b="0" lang="en-US" sz="3800" spc="-1" strike="noStrike">
              <a:solidFill>
                <a:srgbClr val="330033"/>
              </a:solidFill>
              <a:latin typeface="Times New Roman"/>
            </a:endParaRPr>
          </a:p>
        </p:txBody>
      </p:sp>
      <p:sp>
        <p:nvSpPr>
          <p:cNvPr id="135" name="PlaceHolder 2"/>
          <p:cNvSpPr>
            <a:spLocks noGrp="1"/>
          </p:cNvSpPr>
          <p:nvPr>
            <p:ph/>
          </p:nvPr>
        </p:nvSpPr>
        <p:spPr>
          <a:xfrm>
            <a:off x="826920" y="191592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definition cannot be used for part relationships between a developing stucture and parts it instantiates at different stag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Y has_part X: All instances of Y at all times (stages), have some instance(s) of X as a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art relationships during development</a:t>
            </a:r>
            <a:endParaRPr b="0" lang="en-US" sz="3800" spc="-1" strike="noStrike">
              <a:solidFill>
                <a:srgbClr val="330033"/>
              </a:solidFill>
              <a:latin typeface="Times New Roman"/>
            </a:endParaRPr>
          </a:p>
        </p:txBody>
      </p:sp>
      <p:sp>
        <p:nvSpPr>
          <p:cNvPr id="137" name="PlaceHolder 2"/>
          <p:cNvSpPr>
            <a:spLocks noGrp="1"/>
          </p:cNvSpPr>
          <p:nvPr>
            <p:ph/>
          </p:nvPr>
        </p:nvSpPr>
        <p:spPr>
          <a:xfrm>
            <a:off x="826920" y="155700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central nervous system; ts=3 te=1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gt; developing brain; ts=3 te=1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central brain anlage; ts=5 te=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entral brain primordium; ts=6 te=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gt; central brain primordium; ts=6 te=8</a:t>
            </a:r>
            <a:endParaRPr b="0" lang="en-US" sz="2400" spc="-1" strike="noStrike">
              <a:solidFill>
                <a:srgbClr val="000000"/>
              </a:solidFill>
              <a:latin typeface="Arial"/>
            </a:endParaRPr>
          </a:p>
        </p:txBody>
      </p:sp>
      <p:sp>
        <p:nvSpPr>
          <p:cNvPr id="138" name=""/>
          <p:cNvSpPr/>
          <p:nvPr/>
        </p:nvSpPr>
        <p:spPr>
          <a:xfrm>
            <a:off x="1263960" y="4941720"/>
            <a:ext cx="682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s there some definition of has_part that is still useful for group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urations and for reasoning, but that can be used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Anatomy Ontologies – a MOD prespective.</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ossible alternative def for has_part</a:t>
            </a:r>
            <a:endParaRPr b="0" lang="en-US" sz="3800" spc="-1" strike="noStrike">
              <a:solidFill>
                <a:srgbClr val="330033"/>
              </a:solidFill>
              <a:latin typeface="Times New Roman"/>
            </a:endParaRPr>
          </a:p>
        </p:txBody>
      </p:sp>
      <p:sp>
        <p:nvSpPr>
          <p:cNvPr id="140" name="PlaceHolder 2"/>
          <p:cNvSpPr>
            <a:spLocks noGrp="1"/>
          </p:cNvSpPr>
          <p:nvPr>
            <p:ph/>
          </p:nvPr>
        </p:nvSpPr>
        <p:spPr>
          <a:xfrm>
            <a:off x="900000" y="1557000"/>
            <a:ext cx="7772400" cy="45306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Y has_part X: All instances of X have some instance of Y as a part during the stages that Y exists.</a:t>
            </a:r>
            <a:endParaRPr b="0" lang="en-US" sz="24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 </a:t>
            </a:r>
            <a:r>
              <a:rPr b="0" lang="en-US" sz="2000" spc="-1" strike="noStrike">
                <a:solidFill>
                  <a:srgbClr val="000000"/>
                </a:solidFill>
                <a:latin typeface="Arial"/>
              </a:rPr>
              <a:t>&lt;&gt; developing brain; ts=3 te=16</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gt; central brain anlage; ts=5 te=5</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entral brain primordium; ts=6 te=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t;&gt; central brain primordium; ts=6 te=8</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lls us that developing brain has central brain anlage as a part during stage 5 and central brain primordium as a part during stages 6-8</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e- given the stage, we can list reliably list parts</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Poss solution to all – seemed like a good idea in the pub last night.</a:t>
            </a:r>
            <a:endParaRPr b="0" lang="en-US" sz="3800" spc="-1" strike="noStrike">
              <a:solidFill>
                <a:srgbClr val="330033"/>
              </a:solidFill>
              <a:latin typeface="Times New Roman"/>
            </a:endParaRPr>
          </a:p>
        </p:txBody>
      </p:sp>
      <p:sp>
        <p:nvSpPr>
          <p:cNvPr id="14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rm X  ts=4 te=8</a:t>
            </a:r>
            <a:endParaRPr b="0" lang="en-US" sz="28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t;&gt; Term Y ts=6 te =10</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Y part_of X during the stages that both X and Y exist: In this case stages 6-8</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X has_part Y during the stages that both X and Y exist: In this case stages 6-8</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develops_from</a:t>
            </a:r>
            <a:endParaRPr b="0" lang="en-US" sz="4200" spc="-1" strike="noStrike">
              <a:solidFill>
                <a:srgbClr val="330033"/>
              </a:solidFill>
              <a:latin typeface="Times New Roman"/>
            </a:endParaRPr>
          </a:p>
        </p:txBody>
      </p:sp>
      <p:sp>
        <p:nvSpPr>
          <p:cNvPr id="14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As long as part of the definition of ‘B develops_from A’ includ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nd B abut in time: there is no instance that is both A and B simultaneous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en we can use overlap between stages to specify a range during which a transition occurs.  Or, if A(Te) and B(Ts) are adjacent stages – we can tie the transition to a stage boundary.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Tying develops_from transition to stage</a:t>
            </a:r>
            <a:endParaRPr b="0" lang="en-US" sz="3800" spc="-1" strike="noStrike">
              <a:solidFill>
                <a:srgbClr val="330033"/>
              </a:solidFill>
              <a:latin typeface="Times New Roman"/>
            </a:endParaRPr>
          </a:p>
        </p:txBody>
      </p:sp>
      <p:sp>
        <p:nvSpPr>
          <p:cNvPr id="14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X te=n</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rm Y ts=n+1  </a:t>
            </a:r>
            <a:r>
              <a:rPr b="0" lang="en-US" sz="1800" spc="-1" strike="noStrike">
                <a:solidFill>
                  <a:srgbClr val="000000"/>
                </a:solidFill>
                <a:latin typeface="Arial"/>
              </a:rPr>
              <a:t>(note ts&gt;n+1 would not be legal)</a:t>
            </a:r>
            <a:endParaRPr b="0" lang="en-US" sz="18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Times New Roman"/>
              </a:rPr>
              <a:t>Implies that the transition from X to Y occurs at the stage transi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X te=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erm Y ts &lt;=n</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ies that the transition from X to Y occurs at some point during the overlap in stages between X and 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Using cardinality in part reasoning</a:t>
            </a:r>
            <a:endParaRPr b="0" lang="en-US" sz="42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central nervous system  C=1 ts=3 te=16</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t; developing brain C=1 ts=3 te=16</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 central brain anlage ts=5 te=5 C=1</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central brain primordium ts=6 te=8 C=1</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t; central brain primordium ts=6 te=8 C=1</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central brain anlage are part_of some developing brain.  But in any one organism there is only 1 central brain anlage and one developing brain.  So developing brain must have central brain anlage as a part during the stages that central brain anlage ex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What literature curators need</a:t>
            </a:r>
            <a:endParaRPr b="0" lang="en-US" sz="4200" spc="-1" strike="noStrike">
              <a:solidFill>
                <a:srgbClr val="330033"/>
              </a:solidFill>
              <a:latin typeface="Times New Roman"/>
            </a:endParaRPr>
          </a:p>
        </p:txBody>
      </p:sp>
      <p:sp>
        <p:nvSpPr>
          <p:cNvPr id="10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The ability to query the ontology to home in on candidate terms based on limited available information.</a:t>
            </a:r>
            <a:endParaRPr b="0" lang="en-US" sz="2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ful queries for this:</a:t>
            </a:r>
            <a:endParaRPr b="0" lang="en-US" sz="2000" spc="-1" strike="noStrike">
              <a:solidFill>
                <a:srgbClr val="000000"/>
              </a:solidFill>
              <a:latin typeface="Arial"/>
            </a:endParaRPr>
          </a:p>
          <a:p>
            <a:pPr marL="609480" indent="-60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give me a list of all the types of X that are part of Y. </a:t>
            </a:r>
            <a:endParaRPr b="0" lang="en-US" sz="2000" spc="-1" strike="noStrike">
              <a:solidFill>
                <a:srgbClr val="000000"/>
              </a:solidFill>
              <a:latin typeface="Arial"/>
            </a:endParaRPr>
          </a:p>
          <a:p>
            <a:pPr marL="609480" indent="-6094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ind where structures referred to by candidate terms are located.</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A way to curate even when the available anatomical data is vague.</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What database users need</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bility to precisely extract biologically relevant information from an ontology – rather than navigating some convoluted DAG</a:t>
            </a:r>
            <a:endParaRPr b="0" lang="en-US" sz="24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g.- for any term X</a:t>
            </a:r>
            <a:endParaRPr b="0" lang="en-US" sz="22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Locate X, </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at is X,</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 </a:t>
            </a:r>
            <a:r>
              <a:rPr b="0" lang="en-GB" sz="2100" spc="-1" strike="noStrike">
                <a:solidFill>
                  <a:srgbClr val="000000"/>
                </a:solidFill>
                <a:latin typeface="Arial"/>
              </a:rPr>
              <a:t>what subtypes does X have</a:t>
            </a:r>
            <a:endParaRPr b="0" lang="en-US" sz="2100" spc="-1" strike="noStrike">
              <a:solidFill>
                <a:srgbClr val="000000"/>
              </a:solidFill>
              <a:latin typeface="Arial"/>
            </a:endParaRPr>
          </a:p>
          <a:p>
            <a:pPr lvl="2" marL="1143000" indent="-228600">
              <a:spcBef>
                <a:spcPts val="524"/>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What parts does X have </a:t>
            </a:r>
            <a:endParaRPr b="0" lang="en-US" sz="21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ations grouped accurately according to type and part relationshi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00000" y="2852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330033"/>
                </a:solidFill>
                <a:latin typeface="Times New Roman"/>
              </a:rPr>
              <a:t>Argument for making all part relationships into integral_part</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330033"/>
                </a:solidFill>
                <a:latin typeface="Times New Roman"/>
              </a:rPr>
              <a:t>Cardinality</a:t>
            </a:r>
            <a:endParaRPr b="0" lang="en-US" sz="4200" spc="-1" strike="noStrike">
              <a:solidFill>
                <a:srgbClr val="330033"/>
              </a:solidFill>
              <a:latin typeface="Times New Roman"/>
            </a:endParaRPr>
          </a:p>
        </p:txBody>
      </p:sp>
      <p:sp>
        <p:nvSpPr>
          <p:cNvPr id="111" name="PlaceHolder 2"/>
          <p:cNvSpPr>
            <a:spLocks noGrp="1"/>
          </p:cNvSpPr>
          <p:nvPr>
            <p:ph/>
          </p:nvPr>
        </p:nvSpPr>
        <p:spPr>
          <a:xfrm>
            <a:off x="900000" y="1844280"/>
            <a:ext cx="77724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tomy Ontology terms can be classed according to the number of structures per whole organism (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Many per org (C&gt;1) – bristle, scale or neur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lways possibility of further subdivision – e.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ur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motor neur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ventral tp motor neur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Fixed/known number per org: e.g.- limbs or (perhaps) segments (C&gt;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One per organism (C=1) – adult hea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 Less than one per organism - sexually dimorphic structures (C=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330033"/>
                </a:solidFill>
                <a:latin typeface="Times New Roman"/>
              </a:rPr>
              <a:t>The 2 flavours of part relationships*:</a:t>
            </a:r>
            <a:endParaRPr b="0" lang="en-US" sz="3800" spc="-1" strike="noStrike">
              <a:solidFill>
                <a:srgbClr val="330033"/>
              </a:solidFill>
              <a:latin typeface="Times New Roman"/>
            </a:endParaRPr>
          </a:p>
        </p:txBody>
      </p:sp>
      <p:sp>
        <p:nvSpPr>
          <p:cNvPr id="113" name="PlaceHolder 2"/>
          <p:cNvSpPr>
            <a:spLocks noGrp="1"/>
          </p:cNvSpPr>
          <p:nvPr>
            <p:ph/>
          </p:nvPr>
        </p:nvSpPr>
        <p:spPr>
          <a:xfrm>
            <a:off x="755640" y="1922400"/>
            <a:ext cx="7772400" cy="453096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X part_of Y:  All instances of X are part of some instance of Y.  (symbol: &lt;)</a:t>
            </a:r>
            <a:endParaRPr b="0" lang="en-US" sz="24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bligatory (?)</a:t>
            </a: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 has_part X: All instances of Y have some instance(s) of X as a part.  (symbol: &g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both of these conditions are satisfied, the relationship is known as integral_part. (symbol: &lt;&g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800" spc="-1" strike="noStrike">
                <a:solidFill>
                  <a:srgbClr val="000000"/>
                </a:solidFill>
                <a:latin typeface="Arial"/>
              </a:rPr>
              <a:t>For the sake of simplicity, these definitions avoid time/stage. These will be dealt with late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4360" y="1699920"/>
            <a:ext cx="8229600" cy="4895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f we were only using part_of (&lt;) then this is legal:</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ale prothoracic 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 sex com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 claw</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ith integral_part (&lt;&gt;), we are restricted to this:</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ale prothoracic le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lt;&gt; sex comb</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t;&gt; claw</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 is_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duction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ll legs have a claw as a part.  Prothoracic leg is_a leg.  </a:t>
            </a:r>
            <a:r>
              <a:rPr b="1" lang="en-GB" sz="2000" spc="-1" strike="noStrike">
                <a:solidFill>
                  <a:srgbClr val="000000"/>
                </a:solidFill>
                <a:latin typeface="Symbol"/>
                <a:ea typeface="Symbol"/>
              </a:rPr>
              <a:t></a:t>
            </a:r>
            <a:r>
              <a:rPr b="1" lang="en-GB" sz="2000" spc="-1" strike="noStrike">
                <a:solidFill>
                  <a:srgbClr val="000000"/>
                </a:solidFill>
                <a:latin typeface="Arial"/>
              </a:rPr>
              <a:t> </a:t>
            </a:r>
            <a:r>
              <a:rPr b="0" lang="en-GB" sz="1800" spc="-1" strike="noStrike">
                <a:solidFill>
                  <a:srgbClr val="000000"/>
                </a:solidFill>
                <a:latin typeface="Arial"/>
              </a:rPr>
              <a:t>Prothoracic legs have a claw</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x comb part_of leg</a:t>
            </a:r>
            <a:endParaRPr b="0" lang="en-US" sz="1800" spc="-1" strike="noStrike">
              <a:solidFill>
                <a:srgbClr val="000000"/>
              </a:solidFill>
              <a:latin typeface="Arial"/>
            </a:endParaRPr>
          </a:p>
        </p:txBody>
      </p:sp>
      <p:sp>
        <p:nvSpPr>
          <p:cNvPr id="115" name=""/>
          <p:cNvSpPr/>
          <p:nvPr/>
        </p:nvSpPr>
        <p:spPr>
          <a:xfrm>
            <a:off x="900000" y="260280"/>
            <a:ext cx="79423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0033"/>
                </a:solidFill>
                <a:latin typeface="Times New Roman"/>
              </a:rPr>
              <a:t>Example:</a:t>
            </a:r>
            <a:r>
              <a:rPr b="0" lang="en-GB" sz="3600" spc="-1" strike="noStrike">
                <a:solidFill>
                  <a:srgbClr val="330033"/>
                </a:solidFill>
                <a:latin typeface="Times New Roman"/>
              </a:rPr>
              <a:t> sex comb only on male prothoracic leg; all legs have claw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34920" y="677520"/>
            <a:ext cx="7516800" cy="684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How literature curation works</a:t>
            </a:r>
            <a:br>
              <a:rPr sz="3800"/>
            </a:br>
            <a:endParaRPr b="0" lang="en-US" sz="3800" spc="-1" strike="noStrike">
              <a:solidFill>
                <a:srgbClr val="330033"/>
              </a:solidFill>
              <a:latin typeface="Times New Roman"/>
            </a:endParaRPr>
          </a:p>
        </p:txBody>
      </p:sp>
      <p:sp>
        <p:nvSpPr>
          <p:cNvPr id="117" name="PlaceHolder 2"/>
          <p:cNvSpPr>
            <a:spLocks noGrp="1"/>
          </p:cNvSpPr>
          <p:nvPr>
            <p:ph/>
          </p:nvPr>
        </p:nvSpPr>
        <p:spPr>
          <a:xfrm>
            <a:off x="684000" y="1700280"/>
            <a:ext cx="77770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ion of expression or phenotype with any term X can me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ed/having phenotype in all types of X</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ed/having phenotype in some unspecified subset of X  </a:t>
            </a:r>
            <a:r>
              <a:rPr b="0" lang="en-US" sz="2400" spc="-1" strike="noStrike">
                <a:solidFill>
                  <a:srgbClr val="000000"/>
                </a:solidFill>
                <a:latin typeface="Arial"/>
              </a:rPr>
              <a:t>(X is the most precise term we can curate to, given the evidence presented in the paper being cur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15:45:59Z</dcterms:created>
  <dc:creator>David Osumi-Sutherland</dc:creator>
  <dc:description/>
  <dc:language>en-US</dc:language>
  <cp:lastModifiedBy>David Osumi-Sutherland</cp:lastModifiedBy>
  <dcterms:modified xsi:type="dcterms:W3CDTF">2006-09-09T14:59:58Z</dcterms:modified>
  <cp:revision>20</cp:revision>
  <dc:subject/>
  <dc:title>The 2 flavours of part relationships*:</dc:title>
</cp:coreProperties>
</file>